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8C9-A46C-4554-94FD-EA9AB710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BE9-2EA2-4D5C-BAAA-B57DD82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4A6-153D-4644-9BD7-C7E75124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ADB-8635-4251-886E-B501F76E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BBC-273F-4A2E-A248-0376075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6FB-E53E-42C0-9C42-1DEC8E0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AB4-0B33-4CDA-8729-B0B50C6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EC4-F6C7-4A1A-BEF4-40D01AD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CDA-DDA8-414E-956A-622FBCD7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800-73E0-4CEE-93D4-98B844D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1BC-4AFF-40BE-945A-25B2A92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125-D47E-4EB9-B48B-59250F0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710-C1E3-4480-A425-D8CFC745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Harriet Tub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77120" cy="3200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our understanding of the role of Harriet Tubman i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variety of sources and compar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www.mrwright.wikispaces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‘Year 8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down to the ‘Harriet Tubman’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you have a selection of sources, pick two written sources and two picture sources to gather as much information from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hoto’s/pictures tell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0T08:37:03Z</dcterms:modified>
  <cp:revision>1</cp:revision>
  <dc:subject/>
  <dc:title>Who was Harriet Tubman?</dc:title>
</cp:coreProperties>
</file>